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9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AF1D-E3AF-4967-A4D0-4DFB06A63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1977-BA66-49A3-A59B-3BA92244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12E6-AD33-4538-B7AF-347A7B58A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682B-7923-483A-9782-9DDEB4C4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0520-4FEB-4C97-B99C-12DB8DA43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30E40-BC65-4099-8547-6FCD8DD2C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C0B6-67F2-4977-AF76-A6DD147C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6349-F9E3-4FDF-A30F-3F28EE752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9ACF-A79D-4C21-92CA-1AAD2988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1321F-3710-4B13-89F0-7BFD4F89D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8B1D-B18A-4C37-A2B3-213B0D94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7BE0-C7E7-4FAB-AD05-FEAC2C05D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B250-41E2-44EF-838F-71C783C9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E40C6-B8A8-45DC-82CA-570568353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4415-C4EC-40FE-88A5-C6A4405B2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DD1FF-1B53-4CD8-AE84-48A7F9436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DF75-1025-4312-8329-E7317B93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A7AC-71C8-41EA-97C9-2A4E1CCA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27E2-41CE-4978-B863-5C0086BEA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C2F3-7104-40C3-A320-E052440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A8E1-7A4B-4171-BB4F-18DB1397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F06-8F87-4133-BD3E-98EB66B22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2322-4ED1-46BA-BE6D-6CE5BD0A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6FA6-CA88-4154-8EE6-1D13D29C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313A-AEF2-4E43-851B-A2B20746042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72676-F0AA-4392-A4B4-4AE483D2C6E9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hyperlink" Target="http://www.youtube.com/watch?v=z9xGP-FVzbY" TargetMode="External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2"/>
          <a:stretch/>
        </p:blipFill>
        <p:spPr>
          <a:xfrm>
            <a:off x="622440" y="-73080"/>
            <a:ext cx="8332560" cy="18414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3505320" y="3200400"/>
            <a:ext cx="5486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Creative Uses for</a:t>
            </a:r>
            <a:r>
              <a:rPr b="0" lang="en-US" sz="5400" spc="-1" strike="noStrike">
                <a:solidFill>
                  <a:srgbClr val="7030a0"/>
                </a:solidFill>
                <a:latin typeface="Book Antiqua"/>
              </a:rPr>
              <a:t> </a:t>
            </a:r>
            <a:r>
              <a:rPr b="0" lang="en-US" sz="5400" spc="-1" strike="noStrike">
                <a:solidFill>
                  <a:srgbClr val="ff0000"/>
                </a:solidFill>
                <a:latin typeface="Book Antiqua"/>
              </a:rPr>
              <a:t>the Classroom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3"/>
          <a:stretch/>
        </p:blipFill>
        <p:spPr>
          <a:xfrm>
            <a:off x="0" y="1981080"/>
            <a:ext cx="342900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647960" y="380880"/>
            <a:ext cx="4267080" cy="592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Angl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Are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ompute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urrenc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Energ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Forc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Lengt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Power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Press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Speed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emperatur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Typography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Volu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Weigh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8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Book Antiqua"/>
              </a:rPr>
              <a:t>Calculator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2" name="Text Placeholder 12" descr=""/>
          <p:cNvPicPr/>
          <p:nvPr/>
        </p:nvPicPr>
        <p:blipFill>
          <a:blip r:embed="rId2"/>
          <a:stretch/>
        </p:blipFill>
        <p:spPr>
          <a:xfrm>
            <a:off x="449280" y="914400"/>
            <a:ext cx="3551400" cy="5326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22860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VER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iPod Movies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The United States Library of Congress uploads its audio  and video  archive collection to the iTunes Stor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Text Placeholder 12" descr=""/>
          <p:cNvPicPr/>
          <p:nvPr/>
        </p:nvPicPr>
        <p:blipFill>
          <a:blip r:embed="rId2"/>
          <a:stretch/>
        </p:blipFill>
        <p:spPr>
          <a:xfrm>
            <a:off x="5143680" y="1668600"/>
            <a:ext cx="30477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iTUNES U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Learn for fre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iscover iTunes U, and download even more knowledge. You’ll find lectures, discussions, language lessons, audiobooks, podcasts, and more from top universities, museums, and other cultural institutions around the worl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 rot="15787800">
            <a:off x="10398240" y="2184120"/>
            <a:ext cx="6399000" cy="3290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62120" y="30492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  <a:ea typeface="Arial"/>
              </a:rPr>
              <a:t>BEYOND  the Basic App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1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666880" y="1143000"/>
            <a:ext cx="361980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0,1425,sz=1&amp;i=169180,00.jpg"/>
          <p:cNvPicPr/>
          <p:nvPr/>
        </p:nvPicPr>
        <p:blipFill>
          <a:blip r:embed="rId2"/>
          <a:stretch/>
        </p:blipFill>
        <p:spPr>
          <a:xfrm>
            <a:off x="2819520" y="-63360"/>
            <a:ext cx="4952880" cy="6921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17448000">
            <a:off x="5252760" y="3662280"/>
            <a:ext cx="2657520" cy="3257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04920" y="4876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  <a:ea typeface="Arial"/>
              </a:rPr>
              <a:t>Finger Touch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"/>
          <p:cNvPicPr/>
          <p:nvPr/>
        </p:nvPicPr>
        <p:blipFill>
          <a:blip r:embed="rId2"/>
          <a:stretch/>
        </p:blipFill>
        <p:spPr>
          <a:xfrm>
            <a:off x="1371600" y="0"/>
            <a:ext cx="4876920" cy="6219720"/>
          </a:xfrm>
          <a:prstGeom prst="rect">
            <a:avLst/>
          </a:prstGeom>
          <a:ln w="0">
            <a:noFill/>
          </a:ln>
        </p:spPr>
      </p:pic>
      <p:cxnSp>
        <p:nvCxnSpPr>
          <p:cNvPr id="89" name="Straight Arrow Connector 5"/>
          <p:cNvCxnSpPr/>
          <p:nvPr/>
        </p:nvCxnSpPr>
        <p:spPr>
          <a:xfrm flipV="1">
            <a:off x="1904760" y="5105160"/>
            <a:ext cx="2819880" cy="892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Box 6"/>
          <p:cNvSpPr/>
          <p:nvPr/>
        </p:nvSpPr>
        <p:spPr>
          <a:xfrm>
            <a:off x="380880" y="6149880"/>
            <a:ext cx="335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HO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4495680"/>
            <a:ext cx="26668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f Lost…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ways go HOME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7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What is the iPod?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iPod touch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a portable media player and Wi-Fi mobile platform designed and marketed by Apple Inc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Downloading apps to iPod touch is easy. Just tap the App Store icon, browse the categories that interest you, then download your purchases wirelessly. Many apps are even fre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ver 140,000 +app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Box 7"/>
          <p:cNvSpPr/>
          <p:nvPr/>
        </p:nvSpPr>
        <p:spPr>
          <a:xfrm>
            <a:off x="228600" y="457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Sleep/Wak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5" name="TextBox 9"/>
          <p:cNvSpPr/>
          <p:nvPr/>
        </p:nvSpPr>
        <p:spPr>
          <a:xfrm>
            <a:off x="0" y="1981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Volu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Rectangle 12"/>
          <p:cNvSpPr/>
          <p:nvPr/>
        </p:nvSpPr>
        <p:spPr>
          <a:xfrm>
            <a:off x="7067520" y="6156360"/>
            <a:ext cx="173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 Antiqua"/>
              </a:rPr>
              <a:t>HOME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  <p:cxnSp>
        <p:nvCxnSpPr>
          <p:cNvPr id="97" name="Straight Arrow Connector 8"/>
          <p:cNvCxnSpPr/>
          <p:nvPr/>
        </p:nvCxnSpPr>
        <p:spPr>
          <a:xfrm flipV="1">
            <a:off x="1143000" y="2133360"/>
            <a:ext cx="2363040" cy="8388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98" name="" descr=""/>
          <p:cNvPicPr/>
          <p:nvPr/>
        </p:nvPicPr>
        <p:blipFill>
          <a:blip r:embed="rId2"/>
          <a:srcRect l="20931" t="0" r="18605" b="0"/>
          <a:stretch/>
        </p:blipFill>
        <p:spPr>
          <a:xfrm>
            <a:off x="3276720" y="609480"/>
            <a:ext cx="3962160" cy="5486400"/>
          </a:xfrm>
          <a:prstGeom prst="rect">
            <a:avLst/>
          </a:prstGeom>
          <a:ln w="0">
            <a:noFill/>
          </a:ln>
        </p:spPr>
      </p:pic>
      <p:cxnSp>
        <p:nvCxnSpPr>
          <p:cNvPr id="99" name="Straight Arrow Connector 5"/>
          <p:cNvCxnSpPr/>
          <p:nvPr/>
        </p:nvCxnSpPr>
        <p:spPr>
          <a:xfrm flipV="1">
            <a:off x="2057400" y="837720"/>
            <a:ext cx="2324880" cy="47376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0" name="Straight Arrow Connector 10"/>
          <p:cNvCxnSpPr/>
          <p:nvPr/>
        </p:nvCxnSpPr>
        <p:spPr>
          <a:xfrm flipH="1" flipV="1">
            <a:off x="5181120" y="5028480"/>
            <a:ext cx="1372320" cy="10674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rcRect l="0" t="0" r="66007" b="0"/>
          <a:stretch/>
        </p:blipFill>
        <p:spPr>
          <a:xfrm>
            <a:off x="4800600" y="1447920"/>
            <a:ext cx="2684520" cy="4991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1523880"/>
            <a:ext cx="1676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Arial"/>
              </a:rPr>
              <a:t>Wi-Fi</a:t>
            </a:r>
            <a:endParaRPr b="0" lang="en-US" sz="4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2666880" y="1980720"/>
            <a:ext cx="2210040" cy="228600"/>
          </a:xfrm>
          <a:prstGeom prst="line">
            <a:avLst/>
          </a:prstGeom>
          <a:ln w="5400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89548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 Wi-Fi on the  iPod touch to access the App Store and the iTunes Store, surf the web with Safari, check email with Mail, and view videos on YouTube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33cc33"/>
                </a:solidFill>
                <a:latin typeface="Lucida Sans"/>
              </a:rPr>
              <a:t>ESL Pencil Bo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4267080" cy="516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41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Each PencilBot ESL App contains 5 fun-filled activities, including feature videos and mini games.  Learners are exposed to real English in a variety of authentic real-life situations to help them build and improve their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Book Antiqua"/>
              </a:rPr>
              <a:t>communication skills in English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Text Placeholder 12" descr=""/>
          <p:cNvPicPr/>
          <p:nvPr/>
        </p:nvPicPr>
        <p:blipFill>
          <a:blip r:embed="rId2"/>
          <a:stretch/>
        </p:blipFill>
        <p:spPr>
          <a:xfrm>
            <a:off x="4572000" y="2438280"/>
            <a:ext cx="45720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SIGN  4 M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-D Character can be zoomed in or out  and rotated for  to give you the best vantage point for every sign. YOU control the placement of the character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se the controls to control the speed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o learn the alphabet, type ABCD with no spaces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0" name="Text Placeholder 12" descr=""/>
          <p:cNvPicPr/>
          <p:nvPr/>
        </p:nvPicPr>
        <p:blipFill>
          <a:blip r:embed="rId2"/>
          <a:stretch/>
        </p:blipFill>
        <p:spPr>
          <a:xfrm>
            <a:off x="1104840" y="1515960"/>
            <a:ext cx="30481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7T00:15:53Z</dcterms:created>
  <dc:creator>austinbryant</dc:creator>
  <dc:description/>
  <dc:language>en-US</dc:language>
  <cp:lastModifiedBy>ElizabethBryant</cp:lastModifiedBy>
  <dcterms:modified xsi:type="dcterms:W3CDTF">2010-03-09T01:00:22Z</dcterms:modified>
  <cp:revision>26</cp:revision>
  <dc:subject/>
  <dc:title>iPOD  TOUCH</dc:title>
</cp:coreProperties>
</file>